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8.png" ContentType="image/png"/>
  <Override PartName="/ppt/media/image6.jpeg" ContentType="image/jpeg"/>
  <Override PartName="/ppt/media/breeze.wav" ContentType="audio/x-wav"/>
  <Override PartName="/ppt/media/image10.png" ContentType="image/png"/>
  <Override PartName="/ppt/media/image11.gif" ContentType="image/gif"/>
  <Override PartName="/ppt/media/image5.jpeg" ContentType="image/jpeg"/>
  <Override PartName="/ppt/media/image21.gif" ContentType="image/gif"/>
  <Override PartName="/ppt/media/image19.gif" ContentType="image/gif"/>
  <Override PartName="/ppt/media/image17.gif" ContentType="image/gif"/>
  <Override PartName="/ppt/media/image16.gif" ContentType="image/gif"/>
  <Override PartName="/ppt/media/image4.jpeg" ContentType="image/jpeg"/>
  <Override PartName="/ppt/media/image2.png" ContentType="image/png"/>
  <Override PartName="/ppt/media/image20.png" ContentType="image/png"/>
  <Override PartName="/ppt/media/image15.gif" ContentType="image/gif"/>
  <Override PartName="/ppt/media/image14.gif" ContentType="image/gif"/>
  <Override PartName="/ppt/media/image18.gif" ContentType="image/gif"/>
  <Override PartName="/ppt/media/image13.jpeg" ContentType="image/jpeg"/>
  <Override PartName="/ppt/media/image3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262-484E-4615-BCA5-0BB748AE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041-D0FA-42FC-AFFD-D3C78068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8F9-88B5-4596-A682-C5CC07D4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715-12DA-46E2-8217-BD13E930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8FF-3135-4F07-BC6D-12EB84CD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5B33-11B1-492A-82C7-EEE58B28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795-C98E-4809-B015-A851CB4F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8B0-80D2-4488-80D4-F81A1EEA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55B-6747-4792-B010-78F10B49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897-D79F-47A1-BEEC-8640C367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FA3-8D70-44A5-924A-3FA2BA39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0CD-BF72-4440-B400-397F26AB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918B-2C90-44FD-9D60-B4B0FCAB7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2743200"/>
            <a:ext cx="85345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How I Want My Christmas To Be.....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By.Elaina Den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 advTm="5000">
    <p:comb dir="horz"/>
    <p:sndAc>
      <p:stSnd>
        <p:snd r:embed="rId2" name="breez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cap="rnd" w="9360">
            <a:solidFill>
              <a:srgbClr val="0066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p put up Christmas decor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 Christma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pp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y a couple gifts for the homeless that don’t ha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 sure the house is super cle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p prepare a big hot m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2209680"/>
            <a:ext cx="190512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295280" y="533520"/>
            <a:ext cx="662940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510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9900"/>
                </a:solidFill>
                <a:latin typeface="Arial Black"/>
              </a:rPr>
              <a:t>Wat I do Before CHRISTMAS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009900"/>
              </a:solidFill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4724280"/>
            <a:ext cx="1057320" cy="129564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 rot="21118800">
            <a:off x="1676160" y="609120"/>
            <a:ext cx="5943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7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ifferent Things I Wou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IKE 4 CHRISTMAS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76720" y="3352680"/>
            <a:ext cx="266688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553080" y="3276720"/>
            <a:ext cx="97020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934320" y="1676520"/>
            <a:ext cx="1676160" cy="1447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066680" y="51055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7162920" y="50292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5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amily to get a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I want for Christ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ake a ride and see all my family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little get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expect not to get up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0"/>
            <a:ext cx="6248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ings I Expect....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105520" y="5105520"/>
            <a:ext cx="1114200" cy="1323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095880" y="1523880"/>
            <a:ext cx="2095560" cy="139068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264000">
            <a:off x="455400" y="-9000"/>
            <a:ext cx="2895480" cy="6883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541008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324480" y="342900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124080" y="4952880"/>
            <a:ext cx="4343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ving FUN Wi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y bROTHER.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029200" cy="4953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38680" y="533520"/>
            <a:ext cx="312444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781680" y="4343400"/>
            <a:ext cx="2057400" cy="129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gift"/>
          <p:cNvPicPr/>
          <p:nvPr/>
        </p:nvPicPr>
        <p:blipFill>
          <a:blip r:embed="rId4"/>
          <a:stretch/>
        </p:blipFill>
        <p:spPr>
          <a:xfrm>
            <a:off x="2133720" y="586728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1828800" cy="1447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914400" y="380880"/>
            <a:ext cx="5181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ve A Wonderful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RISTMAS....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7:06:50Z</dcterms:created>
  <dc:creator>765892</dc:creator>
  <dc:description/>
  <dc:language>en-US</dc:language>
  <cp:lastModifiedBy>765892</cp:lastModifiedBy>
  <dcterms:modified xsi:type="dcterms:W3CDTF">2008-12-11T18:03:52Z</dcterms:modified>
  <cp:revision>6</cp:revision>
  <dc:subject/>
  <dc:title>Slide 1</dc:title>
</cp:coreProperties>
</file>